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4.wmf" ContentType="image/x-wmf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25200" y="747720"/>
            <a:ext cx="4949640" cy="3713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ter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spina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30240" y="749160"/>
            <a:ext cx="4946760" cy="37116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09720" y="4718160"/>
            <a:ext cx="4976640" cy="446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25560" y="747720"/>
            <a:ext cx="4949640" cy="37130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07920" y="4713120"/>
            <a:ext cx="4980240" cy="44704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Bernd to pre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25525-C294-4F75-A94E-81FEF63AF6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007AC-F9FB-4C8B-8434-7F6DE3C433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9F5AB-3301-473F-B1F4-6535A2A3F5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3324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3368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16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3324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3368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BED74-1F27-45BC-8502-8F108CADFB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3160" y="463320"/>
            <a:ext cx="8281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738FA-2EB5-45F0-AA5E-FE13D4600A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3324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33680" y="107172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316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3324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33680" y="3853440"/>
            <a:ext cx="266652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D9D1E-5A68-49C6-ADFD-2A25142272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609C6-DEAB-4407-9A8A-EF8EF96AC8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9C1E21-E260-4EC3-B7EB-64938E5BB1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533160" y="463320"/>
            <a:ext cx="82818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8216F-DFF6-48F8-B195-26DEC0D49C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9E0F5-0E23-44D2-BEB7-498F810BDF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532584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76840" y="385344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FF38AA-5581-49C2-AF12-2015B0737B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6840" y="1071720"/>
            <a:ext cx="404136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3160" y="3853440"/>
            <a:ext cx="8281800" cy="254016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2C71B-7624-4542-A64A-2E6F530D50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6800" indent="-181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6240" indent="-189000"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7840" y="6524280"/>
            <a:ext cx="7620120" cy="1983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446075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46075"/>
                </a:solidFill>
                <a:latin typeface="Times New Roman"/>
                <a:ea typeface="Arial"/>
              </a:rPr>
              <a:t>The EU perspective on stress testing: CEBS Guidelines | Oleg Shmeljov, 29 November 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281800" y="6497280"/>
            <a:ext cx="533160" cy="3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CB2FF-1AD8-45E0-A512-BF515D931F5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7" descr="EBA_master_logo_ppt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9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66800" indent="-18108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6240" indent="-189000"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30280" indent="-93600">
              <a:spcBef>
                <a:spcPts val="9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0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218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6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8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1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12.png"/><Relationship Id="rId19" Type="http://schemas.openxmlformats.org/officeDocument/2006/relationships/image" Target="../media/image13.png"/><Relationship Id="rId20" Type="http://schemas.openxmlformats.org/officeDocument/2006/relationships/image" Target="../media/image8.png"/><Relationship Id="rId21" Type="http://schemas.openxmlformats.org/officeDocument/2006/relationships/image" Target="../media/image6.png"/><Relationship Id="rId2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565080" y="1109520"/>
            <a:ext cx="4892760" cy="22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 European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Banking Authority</a:t>
            </a:r>
            <a:endParaRPr b="0" lang="en-US" sz="4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556080" y="3654000"/>
            <a:ext cx="4884480" cy="879480"/>
          </a:xfrm>
          <a:prstGeom prst="rect">
            <a:avLst/>
          </a:prstGeom>
          <a:noFill/>
          <a:ln w="0">
            <a:noFill/>
          </a:ln>
        </p:spPr>
        <p:txBody>
          <a:bodyPr lIns="126000" rIns="90000" tIns="270000" bIns="90000" anchor="ctr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uropean Banking Feder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 December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160" y="418680"/>
            <a:ext cx="8281800" cy="6764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17928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ontributing to the single EU rule book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160" y="1090080"/>
            <a:ext cx="8281800" cy="52023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5176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7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rulebook’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76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ximum harmonisation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ut proportionate in order to capture differences across financial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ission work on ‘basic acts’ (sectoral Directiv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role: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eliminating options and national discre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98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) EBA work on ‘implementing legislation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ing guidelines and recommendations (as befo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17680" indent="-343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ing draft binding technical standards (B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1"/>
          <p:cNvSpPr/>
          <p:nvPr/>
        </p:nvSpPr>
        <p:spPr>
          <a:xfrm>
            <a:off x="512640" y="314280"/>
            <a:ext cx="8282160" cy="6876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3960" tIns="90000" bIns="90000" anchor="b">
            <a:noAutofit/>
          </a:bodyPr>
          <a:p>
            <a:pPr>
              <a:lnSpc>
                <a:spcPts val="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Building the single rulebook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6" name="Rectangle 2"/>
          <p:cNvSpPr/>
          <p:nvPr/>
        </p:nvSpPr>
        <p:spPr>
          <a:xfrm>
            <a:off x="512640" y="1000080"/>
            <a:ext cx="8282160" cy="54021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1080" tIns="270000" bIns="90000" anchor="t">
            <a:noAutofit/>
          </a:bodyPr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ope: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broad: Basel III, Bank resolution, Financial innovation, Consumer protection, Deposit guarantee schemes, AML, Payment services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and Binding Technical Standard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Basel III, 40+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 reporting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gal texts: high quality needed, clarity, Q&amp;A for consistent application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estigating breaches of EU regulation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1" marL="3459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1" marL="3459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global consistency 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803160" indent="-1807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  <a:p>
            <a:pPr marL="392040" indent="-3427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3"/>
          <p:cNvSpPr/>
          <p:nvPr/>
        </p:nvSpPr>
        <p:spPr>
          <a:xfrm>
            <a:off x="0" y="6659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asel III transposition into EU legislation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8"/>
          <p:cNvSpPr/>
          <p:nvPr/>
        </p:nvSpPr>
        <p:spPr>
          <a:xfrm>
            <a:off x="1003320" y="1249200"/>
            <a:ext cx="7315200" cy="81612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el III  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1" name="Down Arrow 9"/>
          <p:cNvSpPr/>
          <p:nvPr/>
        </p:nvSpPr>
        <p:spPr>
          <a:xfrm>
            <a:off x="2182680" y="2408400"/>
            <a:ext cx="484200" cy="979200"/>
          </a:xfrm>
          <a:prstGeom prst="downArrow">
            <a:avLst>
              <a:gd name="adj1" fmla="val 50000"/>
              <a:gd name="adj2" fmla="val 50089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2" name="Down Arrow 13"/>
          <p:cNvSpPr/>
          <p:nvPr/>
        </p:nvSpPr>
        <p:spPr>
          <a:xfrm>
            <a:off x="1887480" y="2359080"/>
            <a:ext cx="484200" cy="979560"/>
          </a:xfrm>
          <a:prstGeom prst="downArrow">
            <a:avLst>
              <a:gd name="adj1" fmla="val 50000"/>
              <a:gd name="adj2" fmla="val 50108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3" name="Down Arrow 16"/>
          <p:cNvSpPr/>
          <p:nvPr/>
        </p:nvSpPr>
        <p:spPr>
          <a:xfrm>
            <a:off x="2585880" y="2152800"/>
            <a:ext cx="484200" cy="718920"/>
          </a:xfrm>
          <a:prstGeom prst="downArrow">
            <a:avLst>
              <a:gd name="adj1" fmla="val 50000"/>
              <a:gd name="adj2" fmla="val 50124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4" name="Rectangle 22"/>
          <p:cNvSpPr/>
          <p:nvPr/>
        </p:nvSpPr>
        <p:spPr>
          <a:xfrm>
            <a:off x="4808520" y="2959200"/>
            <a:ext cx="3533760" cy="334332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1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vised Capital Requirements Directive  </a:t>
            </a: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eeds to be transposed into national law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eas covered: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aking up/pursuit of busines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reedom of establishment and free movement of service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rudential supervision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apital buffer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rporate Governance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anctions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5" name="Rectangle 23"/>
          <p:cNvSpPr/>
          <p:nvPr/>
        </p:nvSpPr>
        <p:spPr>
          <a:xfrm>
            <a:off x="1000080" y="2963880"/>
            <a:ext cx="3535560" cy="3332160"/>
          </a:xfrm>
          <a:prstGeom prst="rect">
            <a:avLst/>
          </a:prstGeom>
          <a:solidFill>
            <a:srgbClr val="bacc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180000" tIns="180000" bIns="180000" anchor="ctr" anchorCtr="1">
            <a:noAutofit/>
          </a:bodyPr>
          <a:p>
            <a:pPr marL="395280" indent="-189000" algn="ctr">
              <a:lnSpc>
                <a:spcPct val="100000"/>
              </a:lnSpc>
              <a:spcBef>
                <a:spcPts val="11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pital Requirements Regulation</a:t>
            </a: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rectly applicable with immediate effect in all Member States 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1049"/>
              </a:spcBef>
              <a:spcAft>
                <a:spcPts val="3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eas covered:</a:t>
            </a:r>
            <a:endParaRPr b="0" lang="en-US" sz="14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unterparty credit risk</a:t>
            </a: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  <a:p>
            <a:pPr marL="395280" indent="-189000" algn="ctr">
              <a:lnSpc>
                <a:spcPct val="100000"/>
              </a:lnSpc>
              <a:spcBef>
                <a:spcPts val="751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6" name="Down Arrow 24"/>
          <p:cNvSpPr/>
          <p:nvPr/>
        </p:nvSpPr>
        <p:spPr>
          <a:xfrm>
            <a:off x="6346800" y="2157480"/>
            <a:ext cx="484200" cy="718920"/>
          </a:xfrm>
          <a:prstGeom prst="downArrow">
            <a:avLst>
              <a:gd name="adj1" fmla="val 50000"/>
              <a:gd name="adj2" fmla="val 50124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5280" indent="-18900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Summary CRR/CRDIV tasks for EBA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graphicFrame>
        <p:nvGraphicFramePr>
          <p:cNvPr id="239" name="Object 7"/>
          <p:cNvGraphicFramePr/>
          <p:nvPr/>
        </p:nvGraphicFramePr>
        <p:xfrm>
          <a:off x="1328760" y="1398600"/>
          <a:ext cx="6494400" cy="480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8760" y="1398600"/>
                    <a:ext cx="6494400" cy="48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TS drafting and adoption proces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 of the draft by the Project Team in co-operation with EBA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- benefit and Impact Assessment analysis of propos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option of draft proposals by the Board of Supervisors according to its rules of 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nsultation of the BSG and public consul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eedback process and updating of the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option of the draft TS, publication, and submission to the Commission and the other EU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426"/>
              </a:spcBef>
              <a:spcAft>
                <a:spcPts val="476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EBA’s key priorities in Regula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quidity ris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en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426"/>
              </a:spcBef>
              <a:spcAft>
                <a:spcPts val="476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luster Oversight and its tas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grpSp>
        <p:nvGrpSpPr>
          <p:cNvPr id="248" name="Diagram 2"/>
          <p:cNvGrpSpPr/>
          <p:nvPr/>
        </p:nvGrpSpPr>
        <p:grpSpPr>
          <a:xfrm>
            <a:off x="878040" y="1278000"/>
            <a:ext cx="7591320" cy="4537080"/>
            <a:chOff x="878040" y="1278000"/>
            <a:chExt cx="7591320" cy="4537080"/>
          </a:xfrm>
        </p:grpSpPr>
        <p:sp>
          <p:nvSpPr>
            <p:cNvPr id="249" name="_s2052"/>
            <p:cNvSpPr/>
            <p:nvPr/>
          </p:nvSpPr>
          <p:spPr>
            <a:xfrm>
              <a:off x="3675240" y="1974960"/>
              <a:ext cx="1996920" cy="1996920"/>
            </a:xfrm>
            <a:prstGeom prst="ellipse">
              <a:avLst/>
            </a:prstGeom>
            <a:solidFill>
              <a:srgbClr val="3333cc">
                <a:alpha val="50000"/>
              </a:srgbClr>
            </a:solidFill>
            <a:ln w="46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0" name="_s2053"/>
            <p:cNvSpPr/>
            <p:nvPr/>
          </p:nvSpPr>
          <p:spPr>
            <a:xfrm>
              <a:off x="3706920" y="1278000"/>
              <a:ext cx="193500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Risk assessment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nhancing regular and ad hoc 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hematic risk assessment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1" name="_s2054"/>
            <p:cNvSpPr/>
            <p:nvPr/>
          </p:nvSpPr>
          <p:spPr>
            <a:xfrm>
              <a:off x="4397400" y="2498760"/>
              <a:ext cx="1996920" cy="199692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2" name="_s2055"/>
            <p:cNvSpPr/>
            <p:nvPr/>
          </p:nvSpPr>
          <p:spPr>
            <a:xfrm>
              <a:off x="6534000" y="2629080"/>
              <a:ext cx="193536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College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nhancing and supporting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effective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Functioning of college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3" name="_s2056"/>
            <p:cNvSpPr/>
            <p:nvPr/>
          </p:nvSpPr>
          <p:spPr>
            <a:xfrm>
              <a:off x="4122720" y="3348000"/>
              <a:ext cx="1996920" cy="199728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4" name="_s2057"/>
            <p:cNvSpPr/>
            <p:nvPr/>
          </p:nvSpPr>
          <p:spPr>
            <a:xfrm>
              <a:off x="5824440" y="5315040"/>
              <a:ext cx="1935360" cy="49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Crisis management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capacity to handle 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emergency situation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5" name="_s2058"/>
            <p:cNvSpPr/>
            <p:nvPr/>
          </p:nvSpPr>
          <p:spPr>
            <a:xfrm>
              <a:off x="3230640" y="3349800"/>
              <a:ext cx="1996920" cy="1996920"/>
            </a:xfrm>
            <a:prstGeom prst="ellipse">
              <a:avLst/>
            </a:prstGeom>
            <a:solidFill>
              <a:srgbClr val="ccccff">
                <a:alpha val="50000"/>
              </a:srgbClr>
            </a:solidFill>
            <a:ln w="468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6" name="_s2059"/>
            <p:cNvSpPr/>
            <p:nvPr/>
          </p:nvSpPr>
          <p:spPr>
            <a:xfrm>
              <a:off x="1589040" y="5316480"/>
              <a:ext cx="193536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Risk dashboard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a system of key risk indicator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(in cooperation with ESRB)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7" name="_s2060"/>
            <p:cNvSpPr/>
            <p:nvPr/>
          </p:nvSpPr>
          <p:spPr>
            <a:xfrm>
              <a:off x="2952720" y="2502000"/>
              <a:ext cx="1997280" cy="199692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46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ff9218"/>
                </a:solidFill>
                <a:latin typeface="Arial"/>
              </a:endParaRPr>
            </a:p>
          </p:txBody>
        </p:sp>
        <p:sp>
          <p:nvSpPr>
            <p:cNvPr id="258" name="_s2061"/>
            <p:cNvSpPr/>
            <p:nvPr/>
          </p:nvSpPr>
          <p:spPr>
            <a:xfrm>
              <a:off x="878040" y="2630520"/>
              <a:ext cx="193500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ts val="22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f9218"/>
                  </a:solidFill>
                  <a:latin typeface="Arial"/>
                </a:rPr>
                <a:t>Stress testing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Building common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ethodologies and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conducting EU-wide </a:t>
              </a:r>
              <a:br>
                <a:rPr sz="1800"/>
              </a:b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stress tests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(in cooperation with ESRB)</a:t>
              </a:r>
              <a:endParaRPr b="0" lang="en-US" sz="1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160" y="379080"/>
            <a:ext cx="8281800" cy="69372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EBA’s EU-wide stress tests of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, in cooperation with the ESRB, initiate and coordinate EU-wide assessments of the resilience of financial institutions to adverse market develop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develops, for application by the competent authorities, common methodologies for assessing the effect of economic scenarios on an institution's financial posi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shall, where appropriate, address recommendation to the competent authority to correct issues identified in the stress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Risk dashboards on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RIs to monitor major banks: major EU banks to regularly report to EBA via national supervisors - easier with single supervisory reporting in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to analyse and provide peer group data to national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RIs also to be used as input for ESRB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RB to provided systems wide analysis and possible recommendations to EBA or N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SAs to respond to recommendations via E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i-annual risk assessmen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st of banks on which the EBA undertakes a bi-annual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ssessment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LLIED IRISH BANK (I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BANCO BILBAO VIZCAYA ARGENTARIA (ES) 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NCO SANTANDER (ES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NK OF IRELAND (I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RCLAYS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AYERISCHE LANDES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NP PARIBAS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AIXA (ES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CAIXA GERAL DE DEPÓSITOS (PT) </a:t>
            </a: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MERZ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REDIT AGRICOLE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ANSKE BANK (DK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UTSCHE BANK (D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DEXIA (B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FG-EURBANK (GR)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95280" indent="-189000"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"/>
          <p:cNvSpPr/>
          <p:nvPr/>
        </p:nvSpPr>
        <p:spPr>
          <a:xfrm>
            <a:off x="4952880" y="2457360"/>
            <a:ext cx="3849840" cy="36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RSTE GROUP BANK (AT) 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HSBC HOLDINGS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G BANK (NL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TESA SANPAOLO (I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KBC GROEP (B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LOYDS BANKING GROUP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ILLENNIUM BCP (P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TIONAL BANK OF GREECE (G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RDEA BANK (SE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ABOBANK (NL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OYAL BANK OF SCOTLAND (GB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ZB (AT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200" spc="-1" strike="noStrike">
                <a:solidFill>
                  <a:srgbClr val="000000"/>
                </a:solidFill>
                <a:latin typeface="Arial"/>
              </a:rPr>
              <a:t>SKANDINAVISKA ENSKILDA BANKEN (SE) 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OCIETE GENERALE (FR)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UNICREDIT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(IT)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Risk assessments for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NSA performing risk assessment based upon national SR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ch NSA maps own risk assessment to common temp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isk assessments to be discussed within college under the steer of the consolidating super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hallenge is to achieve a joint assessment of risks and common decisions on the adequacy of capital and possible supervisory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case national EU supervisors disagree, EBA to mediate and take deci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n-EU supervisors can also to take part i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2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untry regulatory regime still under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ssons from the crisis: need to open a debate on best supervisory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Colleges for  EU cross border ban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ay to day supervision by national supervisory autho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ervision organised via colleges of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 total about 110 EU cross border ban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inating role of consolidating superv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decisions in core college = most involve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ective communication group-wide via extended coll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globally operating EU bank has one college, with supervisors from within and outside the 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4960" y="464760"/>
            <a:ext cx="8267760" cy="6080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5040" tIns="90000" bIns="9000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’s role in Supervisory College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34600" y="1071720"/>
            <a:ext cx="82566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2160" tIns="270000" bIns="90000" anchor="t">
            <a:normAutofit/>
          </a:bodyPr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to build capacity to effectively oversee colleges of EU cross border ban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to contribute to promoting and monitoring the efficient, effective and consistent functioning of colleg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staff to participate in college activities (e.g. Calling a meeting of the college, providing input to the agenda, monitor the functioning- but not lead the college per s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may collect and share information and manage a central system of information to facilitate the work of the college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to oversee the tasks carried out by the competent author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03120" indent="-188640" algn="just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BA shall develop BTS, Guidelines and Recommendations on the functioning of 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4"/>
          <p:cNvSpPr/>
          <p:nvPr/>
        </p:nvSpPr>
        <p:spPr>
          <a:xfrm>
            <a:off x="8280360" y="6497640"/>
            <a:ext cx="5367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Binding Media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53352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ettlement of disagreements in cross-border situation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diation between home and host authoritie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quest from one or more authoritie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.g. joint decision on an advanced model IRB/AM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BA sets a timeframe to come to an agreement and moderates – in case no agreement is reached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week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diation panel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lvl="2" marL="766800" indent="-181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ard of Supervisors takes final decision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 competent authorities take decisions in line with BoS decision, this is followed up by the EB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-sectoral settlement of disagreements (together with EIOPA and ESMA) 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lvl="1" marL="395280" indent="-189000"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3520" y="463680"/>
            <a:ext cx="8277120" cy="6048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36360"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Crisis management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33520" y="1068480"/>
            <a:ext cx="8277120" cy="533232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341280" indent="0">
              <a:spcBef>
                <a:spcPts val="78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 capacity to response to emerging risks/thre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isis management coord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 capacity to respond to systemic risk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overy and Resolution Plans and appropriate financing instrum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mporarily prohibit or restrict certain financial activities that threaten the orderly functioning/ integrity of financial markets, under certain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33520" y="463680"/>
            <a:ext cx="8277120" cy="60624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36360" indent="0" algn="just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follow up power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4600" y="1079280"/>
            <a:ext cx="8278920" cy="54291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s towards member author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emergency sit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e case of settling of disagre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isions towards financial instit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 national authorities do not comply with EBA decision in art. 18 or 19, 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national authorities do not comply with EBA recommendation in cases of breach of EU law (following COM formal opinion)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90600" indent="-18900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 directly applicable to financial institutions (includes B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750840" y="2552760"/>
            <a:ext cx="4892760" cy="22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i="1" lang="en-US" sz="3600" spc="-1" strike="noStrike">
                <a:solidFill>
                  <a:srgbClr val="ffffff"/>
                </a:solidFill>
                <a:latin typeface="Arial"/>
                <a:ea typeface="MS PGothic"/>
              </a:rPr>
              <a:t>THANK YOU</a:t>
            </a:r>
            <a:br>
              <a:rPr sz="3600"/>
            </a:b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	</a:t>
            </a:r>
            <a:br>
              <a:rPr sz="1600"/>
            </a:br>
            <a:endParaRPr b="0" lang="en-US" sz="16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39280" y="765000"/>
            <a:ext cx="8186760" cy="560232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181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071720" y="2357280"/>
            <a:ext cx="2357280" cy="2143440"/>
          </a:xfrm>
          <a:prstGeom prst="rect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RB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4857840" y="2286000"/>
            <a:ext cx="2357280" cy="2143080"/>
          </a:xfrm>
          <a:prstGeom prst="rect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SFS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89" name="Left-Right Arrow 10"/>
          <p:cNvSpPr/>
          <p:nvPr/>
        </p:nvSpPr>
        <p:spPr>
          <a:xfrm>
            <a:off x="3643200" y="3071880"/>
            <a:ext cx="1000080" cy="642960"/>
          </a:xfrm>
          <a:prstGeom prst="leftRightArrow">
            <a:avLst>
              <a:gd name="adj1" fmla="val 50000"/>
              <a:gd name="adj2" fmla="val 4999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0" name="Rectangle 13"/>
          <p:cNvSpPr/>
          <p:nvPr/>
        </p:nvSpPr>
        <p:spPr>
          <a:xfrm>
            <a:off x="4857840" y="3071880"/>
            <a:ext cx="78588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IOPA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1" name="Rectangle 14"/>
          <p:cNvSpPr/>
          <p:nvPr/>
        </p:nvSpPr>
        <p:spPr>
          <a:xfrm>
            <a:off x="5643720" y="3071880"/>
            <a:ext cx="792000" cy="1368360"/>
          </a:xfrm>
          <a:prstGeom prst="rect">
            <a:avLst/>
          </a:prstGeom>
          <a:solidFill>
            <a:srgbClr val="00cc99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BA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2" name="Rectangle 15"/>
          <p:cNvSpPr/>
          <p:nvPr/>
        </p:nvSpPr>
        <p:spPr>
          <a:xfrm>
            <a:off x="6429240" y="3071880"/>
            <a:ext cx="785880" cy="13572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SMA</a:t>
            </a:r>
            <a:endParaRPr b="0" lang="en-US" sz="1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4857840" y="2286000"/>
            <a:ext cx="2347920" cy="77616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oint Committee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4" name="Oval 12"/>
          <p:cNvSpPr/>
          <p:nvPr/>
        </p:nvSpPr>
        <p:spPr>
          <a:xfrm>
            <a:off x="1042920" y="1268280"/>
            <a:ext cx="2286000" cy="928800"/>
          </a:xfrm>
          <a:prstGeom prst="ellipse">
            <a:avLst/>
          </a:prstGeom>
          <a:solidFill>
            <a:srgbClr val="60c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central bank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5" name="Oval 16"/>
          <p:cNvSpPr/>
          <p:nvPr/>
        </p:nvSpPr>
        <p:spPr>
          <a:xfrm>
            <a:off x="4859280" y="1197000"/>
            <a:ext cx="2286000" cy="928800"/>
          </a:xfrm>
          <a:prstGeom prst="ellipse">
            <a:avLst/>
          </a:prstGeom>
          <a:solidFill>
            <a:srgbClr val="60c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 supervisors</a:t>
            </a:r>
            <a:endParaRPr b="0" lang="en-US" sz="20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6" name="Oval 17"/>
          <p:cNvSpPr/>
          <p:nvPr/>
        </p:nvSpPr>
        <p:spPr>
          <a:xfrm>
            <a:off x="1143000" y="5072040"/>
            <a:ext cx="2286000" cy="928800"/>
          </a:xfrm>
          <a:prstGeom prst="ellipse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cro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udential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7" name="Oval 18"/>
          <p:cNvSpPr/>
          <p:nvPr/>
        </p:nvSpPr>
        <p:spPr>
          <a:xfrm>
            <a:off x="4857840" y="5000760"/>
            <a:ext cx="2286000" cy="928440"/>
          </a:xfrm>
          <a:prstGeom prst="ellipse">
            <a:avLst/>
          </a:prstGeom>
          <a:solidFill>
            <a:srgbClr val="a4ac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icro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udential</a:t>
            </a:r>
            <a:endParaRPr b="0" lang="en-US" sz="24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539640" y="473040"/>
            <a:ext cx="8202600" cy="60480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90000" bIns="90000" anchor="b">
            <a:noAutofit/>
          </a:bodyPr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uropean System of Financial Supervis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Espace réservé du pied de page 4"/>
          <p:cNvSpPr/>
          <p:nvPr/>
        </p:nvSpPr>
        <p:spPr>
          <a:xfrm>
            <a:off x="538200" y="6524640"/>
            <a:ext cx="7620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94964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uropean Banking Authorit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tablished 1 January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countable to the European Parliament and the Cou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BA assumes all of the tasks and competences of CEBS and additional ta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at in Lond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view Clause (2014 and all 3 ye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Andrew Critchell LRPS Tower 42 1 large"/>
          <p:cNvPicPr/>
          <p:nvPr/>
        </p:nvPicPr>
        <p:blipFill>
          <a:blip r:embed="rId1"/>
          <a:stretch/>
        </p:blipFill>
        <p:spPr>
          <a:xfrm>
            <a:off x="5464080" y="1077840"/>
            <a:ext cx="3351240" cy="531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The role of EBA – main objectives and tasks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406404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 objectiv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ing EU single rule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moting and enhancing quality and consistency of supervis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inforcing oversight of cross-border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rly warning of upcoming vulner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ffective early intervention and bank re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0560" y="1071720"/>
            <a:ext cx="415116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in task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binding technical standards, guidelines, recommend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moting common supervisory culture / supervisory pract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ting on breach of la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nding med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er group analy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nitoring and promoting effectiveness of 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U-wide risk assessments and stress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ting on risk warn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ndling of emergency situation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0" rIns="5040" tIns="0" bIns="0" anchor="b">
            <a:noAutofit/>
          </a:bodyPr>
          <a:p>
            <a:pPr marL="160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Organisational set up - overview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0" rIns="2160" tIns="0" bIns="0" anchor="t">
            <a:normAutofit/>
          </a:bodyPr>
          <a:p>
            <a:pPr lvl="1" marL="372960" indent="0">
              <a:spcBef>
                <a:spcPts val="751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nall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three clusters according to EBA tasks: Regulation, Oversight,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Members’ organisatio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chanisms which enable effective decision making and interaction with member organis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ing Committ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e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-181080">
              <a:spcBef>
                <a:spcPts val="751"/>
              </a:spcBef>
              <a:buClr>
                <a:srgbClr val="000000"/>
              </a:buClr>
              <a:buFont typeface="Lucida Grande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ts’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-188640">
              <a:spcBef>
                <a:spcPts val="1500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ing Stakeholders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72960" indent="0">
              <a:spcBef>
                <a:spcPts val="1500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8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traight Connector 53"/>
          <p:cNvSpPr/>
          <p:nvPr/>
        </p:nvSpPr>
        <p:spPr>
          <a:xfrm flipH="1">
            <a:off x="8071920" y="2286000"/>
            <a:ext cx="180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09" name="Straight Connector 86"/>
          <p:cNvSpPr/>
          <p:nvPr/>
        </p:nvSpPr>
        <p:spPr>
          <a:xfrm flipH="1">
            <a:off x="926640" y="2286000"/>
            <a:ext cx="180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10" name="Straight Connector 88"/>
          <p:cNvSpPr/>
          <p:nvPr/>
        </p:nvSpPr>
        <p:spPr>
          <a:xfrm flipH="1">
            <a:off x="2784600" y="2286000"/>
            <a:ext cx="1440" cy="14292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11" name="Straight Connector 31"/>
          <p:cNvSpPr/>
          <p:nvPr/>
        </p:nvSpPr>
        <p:spPr>
          <a:xfrm flipH="1">
            <a:off x="928440" y="2286000"/>
            <a:ext cx="71434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grpSp>
        <p:nvGrpSpPr>
          <p:cNvPr id="112" name="Rounded Rectangle 4"/>
          <p:cNvGrpSpPr/>
          <p:nvPr/>
        </p:nvGrpSpPr>
        <p:grpSpPr>
          <a:xfrm>
            <a:off x="3840120" y="268200"/>
            <a:ext cx="1463760" cy="609840"/>
            <a:chOff x="3840120" y="268200"/>
            <a:chExt cx="1463760" cy="609840"/>
          </a:xfrm>
        </p:grpSpPr>
        <p:pic>
          <p:nvPicPr>
            <p:cNvPr id="113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3840120" y="268200"/>
              <a:ext cx="1463760" cy="60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3886200" y="314280"/>
              <a:ext cx="13716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Chairperson</a:t>
              </a:r>
              <a:endParaRPr b="0" lang="en-US" sz="12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 Narrow"/>
                </a:rPr>
                <a:t>Andrea Enria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15" name="Rounded Rectangle 6"/>
          <p:cNvGrpSpPr/>
          <p:nvPr/>
        </p:nvGrpSpPr>
        <p:grpSpPr>
          <a:xfrm>
            <a:off x="2127240" y="2408400"/>
            <a:ext cx="1317600" cy="536400"/>
            <a:chOff x="2127240" y="2408400"/>
            <a:chExt cx="1317600" cy="536400"/>
          </a:xfrm>
        </p:grpSpPr>
        <p:pic>
          <p:nvPicPr>
            <p:cNvPr id="116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2127240" y="2408400"/>
              <a:ext cx="13176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166840" y="2452680"/>
              <a:ext cx="123840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Regulation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Isabelle Vaillant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18" name="Rounded Rectangle 7"/>
          <p:cNvGrpSpPr/>
          <p:nvPr/>
        </p:nvGrpSpPr>
        <p:grpSpPr>
          <a:xfrm>
            <a:off x="268200" y="2408400"/>
            <a:ext cx="1322640" cy="536400"/>
            <a:chOff x="268200" y="2408400"/>
            <a:chExt cx="1322640" cy="536400"/>
          </a:xfrm>
        </p:grpSpPr>
        <p:pic>
          <p:nvPicPr>
            <p:cNvPr id="119" name="Rounded Rectangle 7" descr=""/>
            <p:cNvPicPr/>
            <p:nvPr/>
          </p:nvPicPr>
          <p:blipFill>
            <a:blip r:embed="rId3"/>
            <a:stretch/>
          </p:blipFill>
          <p:spPr>
            <a:xfrm>
              <a:off x="268200" y="2408400"/>
              <a:ext cx="13226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309600" y="2452680"/>
              <a:ext cx="12380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Oversight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iers Haben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1" name="Rounded Rectangle 8"/>
          <p:cNvGrpSpPr/>
          <p:nvPr/>
        </p:nvGrpSpPr>
        <p:grpSpPr>
          <a:xfrm>
            <a:off x="7412040" y="2408400"/>
            <a:ext cx="1324080" cy="536400"/>
            <a:chOff x="7412040" y="2408400"/>
            <a:chExt cx="1324080" cy="536400"/>
          </a:xfrm>
        </p:grpSpPr>
        <p:pic>
          <p:nvPicPr>
            <p:cNvPr id="122" name="Rounded Rectangle 8" descr=""/>
            <p:cNvPicPr/>
            <p:nvPr/>
          </p:nvPicPr>
          <p:blipFill>
            <a:blip r:embed="rId4"/>
            <a:stretch/>
          </p:blipFill>
          <p:spPr>
            <a:xfrm>
              <a:off x="7412040" y="2408400"/>
              <a:ext cx="13240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7453440" y="2452680"/>
              <a:ext cx="1238040" cy="45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 Narrow"/>
                </a:rPr>
                <a:t>Operations</a:t>
              </a:r>
              <a:endParaRPr b="0" lang="en-US" sz="16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eter Mihalik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4" name="Rounded Rectangle 16"/>
          <p:cNvGrpSpPr/>
          <p:nvPr/>
        </p:nvGrpSpPr>
        <p:grpSpPr>
          <a:xfrm>
            <a:off x="3919680" y="3273480"/>
            <a:ext cx="927000" cy="536400"/>
            <a:chOff x="3919680" y="3273480"/>
            <a:chExt cx="927000" cy="536400"/>
          </a:xfrm>
        </p:grpSpPr>
        <p:pic>
          <p:nvPicPr>
            <p:cNvPr id="125" name="Rounded Rectangle 16" descr=""/>
            <p:cNvPicPr/>
            <p:nvPr/>
          </p:nvPicPr>
          <p:blipFill>
            <a:blip r:embed="rId5"/>
            <a:stretch/>
          </p:blipFill>
          <p:spPr>
            <a:xfrm>
              <a:off x="391968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3952800" y="3309840"/>
              <a:ext cx="8510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Analysis and Coordinat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27" name="Rounded Rectangle 19"/>
          <p:cNvGrpSpPr/>
          <p:nvPr/>
        </p:nvGrpSpPr>
        <p:grpSpPr>
          <a:xfrm>
            <a:off x="628560" y="1633680"/>
            <a:ext cx="1389240" cy="457200"/>
            <a:chOff x="628560" y="1633680"/>
            <a:chExt cx="1389240" cy="457200"/>
          </a:xfrm>
        </p:grpSpPr>
        <p:pic>
          <p:nvPicPr>
            <p:cNvPr id="128" name="Rounded Rectangle 19" descr=""/>
            <p:cNvPicPr/>
            <p:nvPr/>
          </p:nvPicPr>
          <p:blipFill>
            <a:blip r:embed="rId6"/>
            <a:stretch/>
          </p:blipFill>
          <p:spPr>
            <a:xfrm>
              <a:off x="628560" y="1633680"/>
              <a:ext cx="13892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663480" y="1663560"/>
              <a:ext cx="131616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Legal Counsel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0" name="Rounded Rectangle 20"/>
          <p:cNvGrpSpPr/>
          <p:nvPr/>
        </p:nvGrpSpPr>
        <p:grpSpPr>
          <a:xfrm>
            <a:off x="6559560" y="1633680"/>
            <a:ext cx="1388880" cy="457200"/>
            <a:chOff x="6559560" y="1633680"/>
            <a:chExt cx="1388880" cy="457200"/>
          </a:xfrm>
        </p:grpSpPr>
        <p:pic>
          <p:nvPicPr>
            <p:cNvPr id="131" name="Rounded Rectangle 20" descr=""/>
            <p:cNvPicPr/>
            <p:nvPr/>
          </p:nvPicPr>
          <p:blipFill>
            <a:blip r:embed="rId7"/>
            <a:stretch/>
          </p:blipFill>
          <p:spPr>
            <a:xfrm>
              <a:off x="6559560" y="1633680"/>
              <a:ext cx="138888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6593040" y="1663560"/>
              <a:ext cx="13158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Accounting Officer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3" name="Rounded Rectangle 21"/>
          <p:cNvGrpSpPr/>
          <p:nvPr/>
        </p:nvGrpSpPr>
        <p:grpSpPr>
          <a:xfrm>
            <a:off x="5632560" y="3273480"/>
            <a:ext cx="927000" cy="536400"/>
            <a:chOff x="5632560" y="3273480"/>
            <a:chExt cx="927000" cy="536400"/>
          </a:xfrm>
        </p:grpSpPr>
        <p:pic>
          <p:nvPicPr>
            <p:cNvPr id="134" name="Rounded Rectangle 21" descr=""/>
            <p:cNvPicPr/>
            <p:nvPr/>
          </p:nvPicPr>
          <p:blipFill>
            <a:blip r:embed="rId8"/>
            <a:stretch/>
          </p:blipFill>
          <p:spPr>
            <a:xfrm>
              <a:off x="563256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5668920" y="330984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Consumer Protect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6" name="Rounded Rectangle 22"/>
          <p:cNvGrpSpPr/>
          <p:nvPr/>
        </p:nvGrpSpPr>
        <p:grpSpPr>
          <a:xfrm>
            <a:off x="7559640" y="4413240"/>
            <a:ext cx="932040" cy="536760"/>
            <a:chOff x="7559640" y="4413240"/>
            <a:chExt cx="932040" cy="536760"/>
          </a:xfrm>
        </p:grpSpPr>
        <p:pic>
          <p:nvPicPr>
            <p:cNvPr id="137" name="Rounded Rectangle 22" descr=""/>
            <p:cNvPicPr/>
            <p:nvPr/>
          </p:nvPicPr>
          <p:blipFill>
            <a:blip r:embed="rId9"/>
            <a:stretch/>
          </p:blipFill>
          <p:spPr>
            <a:xfrm>
              <a:off x="7559640" y="441324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"/>
            <p:cNvSpPr/>
            <p:nvPr/>
          </p:nvSpPr>
          <p:spPr>
            <a:xfrm>
              <a:off x="7597800" y="444960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Communication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39" name="Rounded Rectangle 23"/>
          <p:cNvGrpSpPr/>
          <p:nvPr/>
        </p:nvGrpSpPr>
        <p:grpSpPr>
          <a:xfrm>
            <a:off x="7559640" y="4986360"/>
            <a:ext cx="932040" cy="530280"/>
            <a:chOff x="7559640" y="4986360"/>
            <a:chExt cx="932040" cy="530280"/>
          </a:xfrm>
        </p:grpSpPr>
        <p:pic>
          <p:nvPicPr>
            <p:cNvPr id="140" name="Rounded Rectangle 23" descr=""/>
            <p:cNvPicPr/>
            <p:nvPr/>
          </p:nvPicPr>
          <p:blipFill>
            <a:blip r:embed="rId10"/>
            <a:stretch/>
          </p:blipFill>
          <p:spPr>
            <a:xfrm>
              <a:off x="7559640" y="4986360"/>
              <a:ext cx="93204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7597800" y="502128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Office Management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2" name="Rounded Rectangle 24"/>
          <p:cNvGrpSpPr/>
          <p:nvPr/>
        </p:nvGrpSpPr>
        <p:grpSpPr>
          <a:xfrm>
            <a:off x="7559640" y="5553000"/>
            <a:ext cx="932040" cy="536760"/>
            <a:chOff x="7559640" y="5553000"/>
            <a:chExt cx="932040" cy="536760"/>
          </a:xfrm>
        </p:grpSpPr>
        <p:pic>
          <p:nvPicPr>
            <p:cNvPr id="143" name="Rounded Rectangle 24" descr=""/>
            <p:cNvPicPr/>
            <p:nvPr/>
          </p:nvPicPr>
          <p:blipFill>
            <a:blip r:embed="rId11"/>
            <a:stretch/>
          </p:blipFill>
          <p:spPr>
            <a:xfrm>
              <a:off x="7559640" y="555300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7597800" y="559260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Finance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5" name="Rounded Rectangle 25"/>
          <p:cNvGrpSpPr/>
          <p:nvPr/>
        </p:nvGrpSpPr>
        <p:grpSpPr>
          <a:xfrm>
            <a:off x="3919680" y="3986280"/>
            <a:ext cx="785520" cy="390600"/>
            <a:chOff x="3919680" y="3986280"/>
            <a:chExt cx="785520" cy="390600"/>
          </a:xfrm>
        </p:grpSpPr>
        <p:pic>
          <p:nvPicPr>
            <p:cNvPr id="146" name="Rounded Rectangle 25" descr=""/>
            <p:cNvPicPr/>
            <p:nvPr/>
          </p:nvPicPr>
          <p:blipFill>
            <a:blip r:embed="rId12"/>
            <a:stretch/>
          </p:blipFill>
          <p:spPr>
            <a:xfrm>
              <a:off x="3919680" y="398628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946680" y="401472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Legal Analysi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48" name="Rounded Rectangle 26"/>
          <p:cNvGrpSpPr/>
          <p:nvPr/>
        </p:nvGrpSpPr>
        <p:grpSpPr>
          <a:xfrm>
            <a:off x="3919680" y="4486320"/>
            <a:ext cx="785520" cy="390600"/>
            <a:chOff x="3919680" y="4486320"/>
            <a:chExt cx="785520" cy="390600"/>
          </a:xfrm>
        </p:grpSpPr>
        <p:pic>
          <p:nvPicPr>
            <p:cNvPr id="149" name="Rounded Rectangle 26" descr=""/>
            <p:cNvPicPr/>
            <p:nvPr/>
          </p:nvPicPr>
          <p:blipFill>
            <a:blip r:embed="rId13"/>
            <a:stretch/>
          </p:blipFill>
          <p:spPr>
            <a:xfrm>
              <a:off x="3919680" y="448632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3946680" y="451800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Impact Assessment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1" name="Rounded Rectangle 27"/>
          <p:cNvGrpSpPr/>
          <p:nvPr/>
        </p:nvGrpSpPr>
        <p:grpSpPr>
          <a:xfrm>
            <a:off x="3919680" y="4986360"/>
            <a:ext cx="785520" cy="390600"/>
            <a:chOff x="3919680" y="4986360"/>
            <a:chExt cx="785520" cy="390600"/>
          </a:xfrm>
        </p:grpSpPr>
        <p:pic>
          <p:nvPicPr>
            <p:cNvPr id="152" name="Rounded Rectangle 27" descr=""/>
            <p:cNvPicPr/>
            <p:nvPr/>
          </p:nvPicPr>
          <p:blipFill>
            <a:blip r:embed="rId14"/>
            <a:stretch/>
          </p:blipFill>
          <p:spPr>
            <a:xfrm>
              <a:off x="3919680" y="4986360"/>
              <a:ext cx="7855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3946680" y="5018040"/>
              <a:ext cx="720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Policy Coordination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4" name="Rounded Rectangle 5"/>
          <p:cNvGrpSpPr/>
          <p:nvPr/>
        </p:nvGrpSpPr>
        <p:grpSpPr>
          <a:xfrm>
            <a:off x="3876840" y="1054080"/>
            <a:ext cx="1427040" cy="609480"/>
            <a:chOff x="3876840" y="1054080"/>
            <a:chExt cx="1427040" cy="609480"/>
          </a:xfrm>
        </p:grpSpPr>
        <p:pic>
          <p:nvPicPr>
            <p:cNvPr id="155" name="Rounded Rectangle 5" descr=""/>
            <p:cNvPicPr/>
            <p:nvPr/>
          </p:nvPicPr>
          <p:blipFill>
            <a:blip r:embed="rId15"/>
            <a:stretch/>
          </p:blipFill>
          <p:spPr>
            <a:xfrm>
              <a:off x="3876840" y="1054080"/>
              <a:ext cx="142704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3925800" y="1100160"/>
              <a:ext cx="1332000" cy="5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 Narrow"/>
                </a:rPr>
                <a:t>Executive Director</a:t>
              </a:r>
              <a:endParaRPr b="0" lang="en-US" sz="1200" spc="-1" strike="noStrike">
                <a:solidFill>
                  <a:srgbClr val="ff9218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 Narrow"/>
                </a:rPr>
                <a:t>Adam Farkas</a:t>
              </a:r>
              <a:endParaRPr b="0" lang="en-US" sz="8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57" name="Rounded Rectangle 120"/>
          <p:cNvGrpSpPr/>
          <p:nvPr/>
        </p:nvGrpSpPr>
        <p:grpSpPr>
          <a:xfrm>
            <a:off x="7559640" y="3840120"/>
            <a:ext cx="932040" cy="536760"/>
            <a:chOff x="7559640" y="3840120"/>
            <a:chExt cx="932040" cy="536760"/>
          </a:xfrm>
        </p:grpSpPr>
        <p:pic>
          <p:nvPicPr>
            <p:cNvPr id="158" name="Rounded Rectangle 120" descr=""/>
            <p:cNvPicPr/>
            <p:nvPr/>
          </p:nvPicPr>
          <p:blipFill>
            <a:blip r:embed="rId16"/>
            <a:stretch/>
          </p:blipFill>
          <p:spPr>
            <a:xfrm>
              <a:off x="7559640" y="3840120"/>
              <a:ext cx="93204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7597800" y="387828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IT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0" name="Rounded Rectangle 121"/>
          <p:cNvGrpSpPr/>
          <p:nvPr/>
        </p:nvGrpSpPr>
        <p:grpSpPr>
          <a:xfrm>
            <a:off x="487440" y="3273480"/>
            <a:ext cx="933480" cy="536400"/>
            <a:chOff x="487440" y="3273480"/>
            <a:chExt cx="933480" cy="536400"/>
          </a:xfrm>
        </p:grpSpPr>
        <p:pic>
          <p:nvPicPr>
            <p:cNvPr id="161" name="Rounded Rectangle 121" descr=""/>
            <p:cNvPicPr/>
            <p:nvPr/>
          </p:nvPicPr>
          <p:blipFill>
            <a:blip r:embed="rId17"/>
            <a:stretch/>
          </p:blipFill>
          <p:spPr>
            <a:xfrm>
              <a:off x="487440" y="3273480"/>
              <a:ext cx="9334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525600" y="3309840"/>
              <a:ext cx="85068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Bank Sector Analysis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3" name="Rounded Rectangle 122"/>
          <p:cNvGrpSpPr/>
          <p:nvPr/>
        </p:nvGrpSpPr>
        <p:grpSpPr>
          <a:xfrm>
            <a:off x="487440" y="3919680"/>
            <a:ext cx="890640" cy="457200"/>
            <a:chOff x="487440" y="3919680"/>
            <a:chExt cx="890640" cy="457200"/>
          </a:xfrm>
        </p:grpSpPr>
        <p:pic>
          <p:nvPicPr>
            <p:cNvPr id="164" name="Rounded Rectangle 122" descr=""/>
            <p:cNvPicPr/>
            <p:nvPr/>
          </p:nvPicPr>
          <p:blipFill>
            <a:blip r:embed="rId18"/>
            <a:stretch/>
          </p:blipFill>
          <p:spPr>
            <a:xfrm>
              <a:off x="487440" y="3919680"/>
              <a:ext cx="890640" cy="4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520560" y="3949560"/>
              <a:ext cx="81612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Banking</a:t>
              </a:r>
              <a:r>
                <a:rPr b="0" lang="en-GB" sz="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Supervision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6" name="Rounded Rectangle 123"/>
          <p:cNvGrpSpPr/>
          <p:nvPr/>
        </p:nvGrpSpPr>
        <p:grpSpPr>
          <a:xfrm>
            <a:off x="2346480" y="3919680"/>
            <a:ext cx="927000" cy="529920"/>
            <a:chOff x="2346480" y="3919680"/>
            <a:chExt cx="927000" cy="529920"/>
          </a:xfrm>
        </p:grpSpPr>
        <p:pic>
          <p:nvPicPr>
            <p:cNvPr id="167" name="Rounded Rectangle 123" descr=""/>
            <p:cNvPicPr/>
            <p:nvPr/>
          </p:nvPicPr>
          <p:blipFill>
            <a:blip r:embed="rId19"/>
            <a:stretch/>
          </p:blipFill>
          <p:spPr>
            <a:xfrm>
              <a:off x="2346480" y="3919680"/>
              <a:ext cx="9270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2382840" y="3954600"/>
              <a:ext cx="85104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Expert Group 2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69" name="Rounded Rectangle 143"/>
          <p:cNvGrpSpPr/>
          <p:nvPr/>
        </p:nvGrpSpPr>
        <p:grpSpPr>
          <a:xfrm>
            <a:off x="7559640" y="3273480"/>
            <a:ext cx="932040" cy="536400"/>
            <a:chOff x="7559640" y="3273480"/>
            <a:chExt cx="932040" cy="536400"/>
          </a:xfrm>
        </p:grpSpPr>
        <p:pic>
          <p:nvPicPr>
            <p:cNvPr id="170" name="Rounded Rectangle 143" descr=""/>
            <p:cNvPicPr/>
            <p:nvPr/>
          </p:nvPicPr>
          <p:blipFill>
            <a:blip r:embed="rId20"/>
            <a:stretch/>
          </p:blipFill>
          <p:spPr>
            <a:xfrm>
              <a:off x="7559640" y="3273480"/>
              <a:ext cx="93204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>
              <a:off x="7597800" y="3309840"/>
              <a:ext cx="8492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900" spc="-1" strike="noStrike">
                  <a:solidFill>
                    <a:srgbClr val="000000"/>
                  </a:solidFill>
                  <a:latin typeface="Arial Narrow"/>
                </a:rPr>
                <a:t>HR</a:t>
              </a:r>
              <a:endParaRPr b="0" lang="en-US" sz="9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grpSp>
        <p:nvGrpSpPr>
          <p:cNvPr id="172" name="Rounded Rectangle 149"/>
          <p:cNvGrpSpPr/>
          <p:nvPr/>
        </p:nvGrpSpPr>
        <p:grpSpPr>
          <a:xfrm>
            <a:off x="2346480" y="3273480"/>
            <a:ext cx="927000" cy="536400"/>
            <a:chOff x="2346480" y="3273480"/>
            <a:chExt cx="927000" cy="536400"/>
          </a:xfrm>
        </p:grpSpPr>
        <p:pic>
          <p:nvPicPr>
            <p:cNvPr id="173" name="Rounded Rectangle 149" descr=""/>
            <p:cNvPicPr/>
            <p:nvPr/>
          </p:nvPicPr>
          <p:blipFill>
            <a:blip r:embed="rId21"/>
            <a:stretch/>
          </p:blipFill>
          <p:spPr>
            <a:xfrm>
              <a:off x="2346480" y="3273480"/>
              <a:ext cx="92700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2382840" y="3309840"/>
              <a:ext cx="85104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 Narrow"/>
                </a:rPr>
                <a:t>Policy Expert Group 1</a:t>
              </a:r>
              <a:endParaRPr b="0" lang="en-US" sz="1000" spc="-1" strike="noStrike">
                <a:solidFill>
                  <a:srgbClr val="ff9218"/>
                </a:solidFill>
                <a:latin typeface="Arial"/>
              </a:endParaRPr>
            </a:p>
          </p:txBody>
        </p:sp>
      </p:grpSp>
      <p:sp>
        <p:nvSpPr>
          <p:cNvPr id="175" name="Straight Connector 154"/>
          <p:cNvSpPr/>
          <p:nvPr/>
        </p:nvSpPr>
        <p:spPr>
          <a:xfrm flipH="1">
            <a:off x="4378320" y="2286000"/>
            <a:ext cx="7920" cy="10000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6" name="Straight Connector 175"/>
          <p:cNvSpPr/>
          <p:nvPr/>
        </p:nvSpPr>
        <p:spPr>
          <a:xfrm flipH="1">
            <a:off x="4572000" y="857160"/>
            <a:ext cx="1440" cy="2145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7" name="Straight Connector 176"/>
          <p:cNvSpPr/>
          <p:nvPr/>
        </p:nvSpPr>
        <p:spPr>
          <a:xfrm flipH="1">
            <a:off x="4570560" y="1643040"/>
            <a:ext cx="1440" cy="6429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8" name="Straight Connector 41"/>
          <p:cNvSpPr/>
          <p:nvPr/>
        </p:nvSpPr>
        <p:spPr>
          <a:xfrm>
            <a:off x="357120" y="2928960"/>
            <a:ext cx="0" cy="12142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79" name="Straight Connector 43"/>
          <p:cNvSpPr/>
          <p:nvPr/>
        </p:nvSpPr>
        <p:spPr>
          <a:xfrm flipH="1" flipV="1">
            <a:off x="356760" y="3533400"/>
            <a:ext cx="142920" cy="46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0" name="Straight Connector 46"/>
          <p:cNvSpPr/>
          <p:nvPr/>
        </p:nvSpPr>
        <p:spPr>
          <a:xfrm flipH="1">
            <a:off x="356760" y="4143240"/>
            <a:ext cx="14292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1" name="Straight Connector 47"/>
          <p:cNvSpPr/>
          <p:nvPr/>
        </p:nvSpPr>
        <p:spPr>
          <a:xfrm>
            <a:off x="2214720" y="2928960"/>
            <a:ext cx="0" cy="12142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2" name="Straight Connector 48"/>
          <p:cNvSpPr/>
          <p:nvPr/>
        </p:nvSpPr>
        <p:spPr>
          <a:xfrm flipH="1">
            <a:off x="2214720" y="3500280"/>
            <a:ext cx="14256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3" name="Straight Connector 49"/>
          <p:cNvSpPr/>
          <p:nvPr/>
        </p:nvSpPr>
        <p:spPr>
          <a:xfrm flipH="1">
            <a:off x="2214720" y="4143240"/>
            <a:ext cx="14256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4" name="Straight Connector 63"/>
          <p:cNvSpPr/>
          <p:nvPr/>
        </p:nvSpPr>
        <p:spPr>
          <a:xfrm flipH="1">
            <a:off x="8643960" y="2928960"/>
            <a:ext cx="1440" cy="292896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5" name="Straight Connector 69"/>
          <p:cNvSpPr/>
          <p:nvPr/>
        </p:nvSpPr>
        <p:spPr>
          <a:xfrm flipH="1" flipV="1">
            <a:off x="2000160" y="1855800"/>
            <a:ext cx="4572000" cy="14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6" name="Straight Connector 76"/>
          <p:cNvSpPr/>
          <p:nvPr/>
        </p:nvSpPr>
        <p:spPr>
          <a:xfrm flipH="1" flipV="1">
            <a:off x="8500680" y="349992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7" name="Straight Connector 77"/>
          <p:cNvSpPr/>
          <p:nvPr/>
        </p:nvSpPr>
        <p:spPr>
          <a:xfrm flipH="1" flipV="1">
            <a:off x="8500680" y="406836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8" name="Straight Connector 78"/>
          <p:cNvSpPr/>
          <p:nvPr/>
        </p:nvSpPr>
        <p:spPr>
          <a:xfrm flipH="1" flipV="1">
            <a:off x="8500680" y="4640400"/>
            <a:ext cx="142920" cy="28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89" name="Straight Connector 79"/>
          <p:cNvSpPr/>
          <p:nvPr/>
        </p:nvSpPr>
        <p:spPr>
          <a:xfrm flipH="1" flipV="1">
            <a:off x="8500680" y="521136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0" name="Straight Connector 80"/>
          <p:cNvSpPr/>
          <p:nvPr/>
        </p:nvSpPr>
        <p:spPr>
          <a:xfrm flipH="1" flipV="1">
            <a:off x="8500680" y="5854320"/>
            <a:ext cx="142920" cy="32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1" name="Straight Connector 81"/>
          <p:cNvSpPr/>
          <p:nvPr/>
        </p:nvSpPr>
        <p:spPr>
          <a:xfrm>
            <a:off x="4786200" y="3786120"/>
            <a:ext cx="0" cy="142884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2" name="Straight Connector 82"/>
          <p:cNvSpPr/>
          <p:nvPr/>
        </p:nvSpPr>
        <p:spPr>
          <a:xfrm flipH="1">
            <a:off x="4714920" y="421488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3" name="Straight Connector 85"/>
          <p:cNvSpPr/>
          <p:nvPr/>
        </p:nvSpPr>
        <p:spPr>
          <a:xfrm flipH="1">
            <a:off x="4714920" y="471492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4" name="Straight Connector 87"/>
          <p:cNvSpPr/>
          <p:nvPr/>
        </p:nvSpPr>
        <p:spPr>
          <a:xfrm flipH="1">
            <a:off x="4714920" y="5214960"/>
            <a:ext cx="71280" cy="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5" name="Straight Connector 93"/>
          <p:cNvSpPr/>
          <p:nvPr/>
        </p:nvSpPr>
        <p:spPr>
          <a:xfrm flipH="1">
            <a:off x="6064200" y="2286000"/>
            <a:ext cx="7920" cy="1000080"/>
          </a:xfrm>
          <a:prstGeom prst="line">
            <a:avLst/>
          </a:prstGeom>
          <a:ln w="1908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37"/>
          <p:cNvSpPr/>
          <p:nvPr/>
        </p:nvSpPr>
        <p:spPr>
          <a:xfrm>
            <a:off x="531720" y="914400"/>
            <a:ext cx="8282160" cy="554976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1080" tIns="270000" bIns="90000"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3160" y="293400"/>
            <a:ext cx="8281800" cy="62532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rIns="9396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218"/>
                </a:solidFill>
                <a:latin typeface="Arial"/>
              </a:rPr>
              <a:t>EBA Members’ Organisation 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pic>
        <p:nvPicPr>
          <p:cNvPr id="198" name="Group 18" descr=""/>
          <p:cNvPicPr/>
          <p:nvPr/>
        </p:nvPicPr>
        <p:blipFill>
          <a:blip r:embed="rId1"/>
          <a:stretch/>
        </p:blipFill>
        <p:spPr>
          <a:xfrm>
            <a:off x="3382920" y="1060560"/>
            <a:ext cx="2451240" cy="744480"/>
          </a:xfrm>
          <a:prstGeom prst="rect">
            <a:avLst/>
          </a:prstGeom>
          <a:ln w="0">
            <a:noFill/>
          </a:ln>
        </p:spPr>
      </p:pic>
      <p:pic>
        <p:nvPicPr>
          <p:cNvPr id="199" name="Group 30" descr=""/>
          <p:cNvPicPr/>
          <p:nvPr/>
        </p:nvPicPr>
        <p:blipFill>
          <a:blip r:embed="rId2"/>
          <a:stretch/>
        </p:blipFill>
        <p:spPr>
          <a:xfrm>
            <a:off x="1957320" y="4827600"/>
            <a:ext cx="1712880" cy="1139760"/>
          </a:xfrm>
          <a:prstGeom prst="rect">
            <a:avLst/>
          </a:prstGeom>
          <a:ln w="0">
            <a:noFill/>
          </a:ln>
        </p:spPr>
      </p:pic>
      <p:pic>
        <p:nvPicPr>
          <p:cNvPr id="200" name="Group 18" descr=""/>
          <p:cNvPicPr/>
          <p:nvPr/>
        </p:nvPicPr>
        <p:blipFill>
          <a:blip r:embed="rId3"/>
          <a:stretch/>
        </p:blipFill>
        <p:spPr>
          <a:xfrm>
            <a:off x="1925640" y="2060640"/>
            <a:ext cx="2451240" cy="749160"/>
          </a:xfrm>
          <a:prstGeom prst="rect">
            <a:avLst/>
          </a:prstGeom>
          <a:ln w="0">
            <a:noFill/>
          </a:ln>
        </p:spPr>
      </p:pic>
      <p:pic>
        <p:nvPicPr>
          <p:cNvPr id="201" name="Group 18" descr=""/>
          <p:cNvPicPr/>
          <p:nvPr/>
        </p:nvPicPr>
        <p:blipFill>
          <a:blip r:embed="rId4"/>
          <a:stretch/>
        </p:blipFill>
        <p:spPr>
          <a:xfrm>
            <a:off x="1023840" y="3486240"/>
            <a:ext cx="1712880" cy="1141200"/>
          </a:xfrm>
          <a:prstGeom prst="rect">
            <a:avLst/>
          </a:prstGeom>
          <a:ln w="0">
            <a:noFill/>
          </a:ln>
        </p:spPr>
      </p:pic>
      <p:pic>
        <p:nvPicPr>
          <p:cNvPr id="202" name="Group 18" descr=""/>
          <p:cNvPicPr/>
          <p:nvPr/>
        </p:nvPicPr>
        <p:blipFill>
          <a:blip r:embed="rId5"/>
          <a:stretch/>
        </p:blipFill>
        <p:spPr>
          <a:xfrm>
            <a:off x="4767120" y="4846680"/>
            <a:ext cx="1719360" cy="1139760"/>
          </a:xfrm>
          <a:prstGeom prst="rect">
            <a:avLst/>
          </a:prstGeom>
          <a:ln w="0">
            <a:noFill/>
          </a:ln>
        </p:spPr>
      </p:pic>
      <p:pic>
        <p:nvPicPr>
          <p:cNvPr id="203" name="Group 18" descr=""/>
          <p:cNvPicPr/>
          <p:nvPr/>
        </p:nvPicPr>
        <p:blipFill>
          <a:blip r:embed="rId6"/>
          <a:stretch/>
        </p:blipFill>
        <p:spPr>
          <a:xfrm>
            <a:off x="6400800" y="3486240"/>
            <a:ext cx="1719360" cy="1141200"/>
          </a:xfrm>
          <a:prstGeom prst="rect">
            <a:avLst/>
          </a:prstGeom>
          <a:ln w="0">
            <a:noFill/>
          </a:ln>
        </p:spPr>
      </p:pic>
      <p:pic>
        <p:nvPicPr>
          <p:cNvPr id="204" name="Group 75" descr=""/>
          <p:cNvPicPr/>
          <p:nvPr/>
        </p:nvPicPr>
        <p:blipFill>
          <a:blip r:embed="rId7"/>
          <a:stretch/>
        </p:blipFill>
        <p:spPr>
          <a:xfrm>
            <a:off x="4900680" y="1878120"/>
            <a:ext cx="1622520" cy="536400"/>
          </a:xfrm>
          <a:prstGeom prst="rect">
            <a:avLst/>
          </a:prstGeom>
          <a:ln w="0">
            <a:noFill/>
          </a:ln>
        </p:spPr>
      </p:pic>
      <p:pic>
        <p:nvPicPr>
          <p:cNvPr id="205" name="Group 72" descr=""/>
          <p:cNvPicPr/>
          <p:nvPr/>
        </p:nvPicPr>
        <p:blipFill>
          <a:blip r:embed="rId8"/>
          <a:stretch/>
        </p:blipFill>
        <p:spPr>
          <a:xfrm>
            <a:off x="4919760" y="2401920"/>
            <a:ext cx="1584360" cy="542880"/>
          </a:xfrm>
          <a:prstGeom prst="rect">
            <a:avLst/>
          </a:prstGeom>
          <a:ln w="0">
            <a:noFill/>
          </a:ln>
        </p:spPr>
      </p:pic>
      <p:sp>
        <p:nvSpPr>
          <p:cNvPr id="206" name="Right Arrow 57"/>
          <p:cNvSpPr/>
          <p:nvPr/>
        </p:nvSpPr>
        <p:spPr>
          <a:xfrm>
            <a:off x="934920" y="1636560"/>
            <a:ext cx="628920" cy="10004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acc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270000" bIns="90000" anchor="t">
            <a:noAutofit/>
          </a:bodyPr>
          <a:p>
            <a:pPr marL="393840" indent="-187560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7" name="Straight Connector 62"/>
          <p:cNvSpPr/>
          <p:nvPr/>
        </p:nvSpPr>
        <p:spPr>
          <a:xfrm>
            <a:off x="4614840" y="1743120"/>
            <a:ext cx="0" cy="138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8" name="Straight Connector 66"/>
          <p:cNvSpPr/>
          <p:nvPr/>
        </p:nvSpPr>
        <p:spPr>
          <a:xfrm>
            <a:off x="1817640" y="3114720"/>
            <a:ext cx="542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09" name="Straight Connector 70"/>
          <p:cNvSpPr/>
          <p:nvPr/>
        </p:nvSpPr>
        <p:spPr>
          <a:xfrm>
            <a:off x="1817640" y="3125880"/>
            <a:ext cx="0" cy="38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0" name="Straight Connector 78"/>
          <p:cNvSpPr/>
          <p:nvPr/>
        </p:nvSpPr>
        <p:spPr>
          <a:xfrm>
            <a:off x="3098880" y="3157560"/>
            <a:ext cx="0" cy="171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1" name="Straight Connector 81"/>
          <p:cNvSpPr/>
          <p:nvPr/>
        </p:nvSpPr>
        <p:spPr>
          <a:xfrm flipH="1">
            <a:off x="5613480" y="3121200"/>
            <a:ext cx="1440" cy="173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2" name="Straight Connector 82"/>
          <p:cNvSpPr/>
          <p:nvPr/>
        </p:nvSpPr>
        <p:spPr>
          <a:xfrm>
            <a:off x="7243920" y="3129120"/>
            <a:ext cx="0" cy="38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3" name="Straight Connector 87"/>
          <p:cNvSpPr/>
          <p:nvPr/>
        </p:nvSpPr>
        <p:spPr>
          <a:xfrm>
            <a:off x="4324320" y="2371680"/>
            <a:ext cx="300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4" name="Straight Connector 89"/>
          <p:cNvSpPr/>
          <p:nvPr/>
        </p:nvSpPr>
        <p:spPr>
          <a:xfrm>
            <a:off x="4635360" y="2671920"/>
            <a:ext cx="30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15" name="Straight Connector 90"/>
          <p:cNvSpPr/>
          <p:nvPr/>
        </p:nvSpPr>
        <p:spPr>
          <a:xfrm>
            <a:off x="4638600" y="2112840"/>
            <a:ext cx="30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cxnSp>
        <p:nvCxnSpPr>
          <p:cNvPr id="216" name="Straight Arrow Connector 92"/>
          <p:cNvCxnSpPr/>
          <p:nvPr/>
        </p:nvCxnSpPr>
        <p:spPr>
          <a:xfrm>
            <a:off x="8048520" y="1946160"/>
            <a:ext cx="915120" cy="915120"/>
          </a:xfrm>
          <a:prstGeom prst="straightConnector1">
            <a:avLst/>
          </a:prstGeom>
          <a:ln w="0">
            <a:noFill/>
          </a:ln>
        </p:spPr>
      </p:cxnSp>
      <p:sp>
        <p:nvSpPr>
          <p:cNvPr id="217" name="Straight Connector 42"/>
          <p:cNvSpPr/>
          <p:nvPr/>
        </p:nvSpPr>
        <p:spPr>
          <a:xfrm>
            <a:off x="4411800" y="3132000"/>
            <a:ext cx="0" cy="4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  <p:pic>
        <p:nvPicPr>
          <p:cNvPr id="218" name="Group 30" descr=""/>
          <p:cNvPicPr/>
          <p:nvPr/>
        </p:nvPicPr>
        <p:blipFill>
          <a:blip r:embed="rId9"/>
          <a:stretch/>
        </p:blipFill>
        <p:spPr>
          <a:xfrm>
            <a:off x="3449520" y="3548160"/>
            <a:ext cx="1719360" cy="1146240"/>
          </a:xfrm>
          <a:prstGeom prst="rect">
            <a:avLst/>
          </a:prstGeom>
          <a:ln w="0">
            <a:noFill/>
          </a:ln>
        </p:spPr>
      </p:pic>
      <p:pic>
        <p:nvPicPr>
          <p:cNvPr id="219" name="Group 75" descr=""/>
          <p:cNvPicPr/>
          <p:nvPr/>
        </p:nvPicPr>
        <p:blipFill>
          <a:blip r:embed="rId10"/>
          <a:stretch/>
        </p:blipFill>
        <p:spPr>
          <a:xfrm>
            <a:off x="6583320" y="2200320"/>
            <a:ext cx="1622520" cy="512640"/>
          </a:xfrm>
          <a:prstGeom prst="rect">
            <a:avLst/>
          </a:prstGeom>
          <a:ln w="0">
            <a:noFill/>
          </a:ln>
        </p:spPr>
      </p:pic>
      <p:sp>
        <p:nvSpPr>
          <p:cNvPr id="220" name="Straight Connector 52"/>
          <p:cNvSpPr/>
          <p:nvPr/>
        </p:nvSpPr>
        <p:spPr>
          <a:xfrm>
            <a:off x="4622760" y="2401920"/>
            <a:ext cx="200808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921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160" y="463320"/>
            <a:ext cx="8281800" cy="609480"/>
          </a:xfrm>
          <a:prstGeom prst="rect">
            <a:avLst/>
          </a:prstGeom>
          <a:solidFill>
            <a:srgbClr val="446075"/>
          </a:solidFill>
          <a:ln w="0">
            <a:noFill/>
          </a:ln>
        </p:spPr>
        <p:txBody>
          <a:bodyPr lIns="126000" tIns="90000" bIns="90000" anchor="b">
            <a:noAutofit/>
          </a:bodyPr>
          <a:p>
            <a:pPr indent="0">
              <a:lnSpc>
                <a:spcPts val="22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9218"/>
                </a:solidFill>
                <a:latin typeface="Arial"/>
              </a:rPr>
              <a:t>Outline</a:t>
            </a:r>
            <a:endParaRPr b="0" lang="en-US" sz="2800" spc="-1" strike="noStrike">
              <a:solidFill>
                <a:srgbClr val="ff9218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160" y="1071720"/>
            <a:ext cx="8281800" cy="5325840"/>
          </a:xfrm>
          <a:prstGeom prst="rect">
            <a:avLst/>
          </a:prstGeom>
          <a:solidFill>
            <a:srgbClr val="baccc0"/>
          </a:solidFill>
          <a:ln w="0">
            <a:noFill/>
          </a:ln>
        </p:spPr>
        <p:txBody>
          <a:bodyPr lIns="126000" rIns="90000" tIns="270000" bIns="900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EU supervisory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gulation and the single rule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versight of cross border banks and assessment of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6T18:10:20Z</dcterms:created>
  <dc:creator>Christian Moor</dc:creator>
  <dc:description/>
  <dc:language>en-US</dc:language>
  <cp:lastModifiedBy>cmoor</cp:lastModifiedBy>
  <dcterms:modified xsi:type="dcterms:W3CDTF">2011-12-02T16:58:14Z</dcterms:modified>
  <cp:revision>116</cp:revision>
  <dc:subject/>
  <dc:title>The European Banking Authority</dc:title>
</cp:coreProperties>
</file>